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0.wmf" ContentType="image/x-wmf"/>
  <Override PartName="/ppt/media/image24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1.jpeg" ContentType="image/jpeg"/>
  <Override PartName="/ppt/media/image23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6.wmf" ContentType="image/x-wmf"/>
  <Override PartName="/ppt/media/image32.png" ContentType="image/png"/>
  <Override PartName="/ppt/media/image13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1.jpeg" ContentType="image/jpeg"/>
  <Override PartName="/ppt/media/image10.png" ContentType="image/png"/>
  <Override PartName="/ppt/media/image28.wmf" ContentType="image/x-wmf"/>
  <Override PartName="/ppt/media/image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E0E-4BA3-4172-85AF-A7CC137C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C35-5C35-43CA-A03C-0BD66589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830-E7D8-471E-AD57-C9FD72CF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DE2-C783-45FD-B127-09F8527D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622-2E27-474C-8DCC-5906AB5E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BB1-91C8-46B1-B509-4BF9172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9FD-D5DC-420F-8A41-23D9C47F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88C-8220-4D54-A07C-DF9C5BAB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FCA-B5EB-4C85-9821-B62F22FC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6BD-7C3E-4EFA-8306-9E2179A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722-83C0-45F3-919C-8FF0FC8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C94-807B-41F3-BC57-EEF64705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BB30-82E5-4D21-90DB-5C133CD92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ANCI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844640"/>
            <a:ext cx="6400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okman Old Style"/>
              </a:rPr>
              <a:t>La Fondazione di Piacenza e Vigev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Facciata del Palazzo Rota Pisaroni"/>
          <p:cNvPicPr/>
          <p:nvPr/>
        </p:nvPicPr>
        <p:blipFill>
          <a:blip r:embed="rId2"/>
          <a:stretch/>
        </p:blipFill>
        <p:spPr>
          <a:xfrm>
            <a:off x="3203640" y="184464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. domande accolte sul tot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21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3029040"/>
          <a:ext cx="380988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29040"/>
                    <a:ext cx="3809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1628640"/>
            <a:ext cx="7054920" cy="4176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908000" y="5373720"/>
            <a:ext cx="5256360" cy="4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Percentuali : domande accolte</a:t>
            </a:r>
            <a:r>
              <a:rPr b="0" lang="en-US" sz="1800" spc="-1" strike="noStrike">
                <a:solidFill>
                  <a:srgbClr val="0066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Bookman Old Style"/>
              </a:rPr>
              <a:t>(3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Suddivisione impegni :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pluriennali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annuali e annuali ricorren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6163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rogetti pluriennal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173480" cy="2384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240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rogetti annuali ricorren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3814560" cy="2384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743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85800" y="609480"/>
            <a:ext cx="7772400" cy="2532240"/>
            <a:chOff x="685800" y="609480"/>
            <a:chExt cx="7772400" cy="25322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609480"/>
              <a:ext cx="7772400" cy="25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685800" y="609480"/>
              <a:ext cx="7772400" cy="253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7775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Principali Interventi realizzati nei sett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arte, attività e beni cultur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Conservazione e valorizzazione beni storico-artistici : € 572. 6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Produzioni artistiche e letterarie : € 981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Attività culturali,conferenze, mostre e iniziative editoriali : € 363.247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Educazione, istruzione e 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istruzione superiore (dottorati, master)  : € 702.75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adeguamento strutture scolastiche e universitarie : € 321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iniziative formative di varie natura  : € 421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Ricerca scientifica e tecnologica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ricerca sperimentale : € 320.5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progetti specifici in campo  medico  : € 421.666,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Assistenza anzia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interventi strutturali di adeguamento  : € 400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acquisto attrezzature e arredi : € 112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progetti specifici ricreativi e assistenziali : 419.8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Volontariato, beneficenza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progetti realizzati   : € 422.5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Famiglia e valori connes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adeguamento strutture : € 235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66ff"/>
                </a:solidFill>
                <a:latin typeface="Times New Roman"/>
              </a:rPr>
              <a:t>realizzazione progetti specifici : € 154.00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1530360" cy="396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8000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072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rte, attività e beni culturali :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getti significativi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Conservazione e valorizzazione beni storico-artistici e archeologici : € 572.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rrocchie di Piacenza e provincia (restauri) : € 236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rrocchie di Vigevano (restauri) :€  62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Diocesi di Piacenza (inventariazione beni  ecclesiastici) : € 115.000 ( es. 2007/2011 tot. 495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rea archeogica di Travo ( Comune e ass.ne Minerva) : € 47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Castel San Giovanni (rifunzionalizzazione Villa Braghieri): € 42.000 ( es. 2008-2009 tot.€84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ura farnesiane( interventi di pulizia)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Produzioni artistiche e letterarie : € 98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atro Municipale di Piacenza (stagione) : € 3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atro Cagnoni di Vigevano : € 1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atro Verdi Di Fiorenzuola : € 8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atro Verdi di Castel  San Giovanni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ndazione ValTidone Festival : € 22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Jazz Festival : € 6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stival Diritto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Arti visive e attività museali e attività culturali : 363.2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stra” Pittura toscana alla Ricci Oddi “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ditorium e attività culturali : € 2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2521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ducazione, istruzione e formazione :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progetti significativi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Istruzione superiore universitaria e post universitaria : € 702.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ff0000"/>
                </a:solidFill>
                <a:latin typeface="Times New Roman"/>
              </a:rPr>
              <a:t>Università Cattolica – Agroalimentare : € 612.750 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( es. 2006-2012 tot.€  2.651.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niversità Cattolica – dottorato di ricerca : € 6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olitecnico – borse di studio architettura : € 3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Adeguamento strutture scolastiche  : € 32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ff0000"/>
                </a:solidFill>
                <a:latin typeface="Times New Roman"/>
              </a:rPr>
              <a:t>Politecnico – allestimento laboratori : € 300.000 ( 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es. 2006-2010 tot.€  1.500.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st. San Benedetto – lavagne multimediali : € 1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st. Mattei di Fiorenzuola - lavagne multimediali : € 6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Liceo M.Gioia -lavagne multimediali : € 5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Iniziative formative : €34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zienda Tadini – ristorante didattico : € 9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Teatro Gioco Vita – Informazione Teatrale : € 65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Comune di Bobbio – laboratorio cinema Bellocchio : € 5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Fondazione ValTidone Festival : € 4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Jazz Festival : € 4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Comune di Vigevano (Ist. Costa) – laboratori musicali : € 15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mm.ne provinciale Piacenza – iniz. formative per i  giovani : € 1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Progetti specifici  :  € 6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Parrocchia S.Brigida – iniz. per i giovani  € 2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ss.ne Fuori serie – progetto diverso da chi : € 10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ss.ne Barriera Vigevano – formazioen culturale : € 15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ff"/>
                </a:solidFill>
                <a:latin typeface="Times New Roman"/>
              </a:rPr>
              <a:t>Biblioteche, Archivi, Musei  € 16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Biblioteca Giana Anguissola – sostegno attività  : € 8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Comune di Pontenure – allestimento biblioteca : € 8.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24720" y="765000"/>
            <a:ext cx="1136520" cy="93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56360" y="765000"/>
            <a:ext cx="14079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icerca scientifica e tecnologica  :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getti significativi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Progetti specifici  (ricerca sperimentale/campo medico) : € 742.166,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Azienda AUSL Piacenza - Cellule staminali :  € 200.000 (es. 2003/2009 tot.1.1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Azienda AUSL Piacenza/Pavia  – Morbo di Parkinson :  € 126.666,67 (es.2008/2010 tot. 38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ndazione di Piacenza e Vigevano – Housing sociale : € 1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litecnico – Polipiacenza : € 100.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T Vigevano – progetto cultura e innovazione : €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. Beato Matteo Pavia (Vigevano) – marcatori osteoporosi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zienda AUSL Piacenza – screening carcinoma colon-retto : €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48360" y="765000"/>
            <a:ext cx="1047960" cy="93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8000" y="765000"/>
            <a:ext cx="9748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 Fondazione  di  Piacenza e Vigevano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è  una Fondazione di origine bancaria</a:t>
            </a:r>
            <a:r>
              <a:rPr b="0" lang="en-US" sz="1800" spc="-1" strike="noStrike">
                <a:solidFill>
                  <a:srgbClr val="cc0000"/>
                </a:solidFill>
                <a:latin typeface="Bookman Old Style"/>
              </a:rPr>
              <a:t>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E’ stata istituita</a:t>
            </a:r>
            <a:r>
              <a:rPr b="0" lang="en-US" sz="1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il 24 dicembre 199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ed  è  la  continuazione ideale della Cassa di Risparmio di Piacenza e Vigevano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  Fondazione  ha origine dal  processo  di riforma del sistema bancario :  </a:t>
            </a:r>
            <a:r>
              <a:rPr b="1" lang="en-US" sz="1800" spc="-1" strike="noStrike">
                <a:solidFill>
                  <a:srgbClr val="cc0000"/>
                </a:solidFill>
                <a:latin typeface="Bookman Old Style"/>
              </a:rPr>
              <a:t>Legge Amato del 1990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Facciata della Sede"/>
          <p:cNvPicPr/>
          <p:nvPr/>
        </p:nvPicPr>
        <p:blipFill>
          <a:blip r:embed="rId1"/>
          <a:stretch/>
        </p:blipFill>
        <p:spPr>
          <a:xfrm>
            <a:off x="684360" y="620640"/>
            <a:ext cx="382572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Affresco Auditorium"/>
          <p:cNvPicPr/>
          <p:nvPr/>
        </p:nvPicPr>
        <p:blipFill>
          <a:blip r:embed="rId2"/>
          <a:stretch/>
        </p:blipFill>
        <p:spPr>
          <a:xfrm>
            <a:off x="4500720" y="620640"/>
            <a:ext cx="39589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sistenza agli anziani  :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progetti signific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Costruzioni e ristrutturazioni immobili: € 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Unicoop – riconversione struttura : € 200.000 (es. 2007/2009 tot. 5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nsorzio Farini – Ferriere  : € 100.000 (es. 2006/2009 tot. 4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Vernasca – adeguamento struttura  : € 100.000 (es.2009-2011 tot.3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Acquisto arredi ed attrezzature :  € 11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donna della Bomba  : € 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. Archieri, Moruzzi, Boriani Monticelli d’Ongina :  €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.Prospero Verani 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Vigevano – Ist. De Rodolfi : € 12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Altri interventi  : € 83.028,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Opera Pia S.Chiara : € 73.028,74 (es.  2003/20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pera Pia Castelli Comune di Ottone 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Progetti specifici  :€ 321.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rrocchia S.Vittore – sistemazione fabbricato:   € 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rcolo Anspi Cattaragna – sistemazione circolo  : € 4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Borgonovo / Ist. Andreoli – Hospice  : € 4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Vigevano – progetto Solleone : € 2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ndazione di Piacenza e Vigevano – musicoterapia : € 24.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 . Vassalli Remondini- acquisto autovettura per trasporto anziani : € 22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Cerignale – taxi sociale : € 1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Cortebrugnatella – acquisto autovettura  per trasporto anziani : € 1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Nibbiano – acquisto autovettura per trasporto anziani  :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1081080" cy="93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24720" y="765000"/>
            <a:ext cx="93672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amiglia e valori connessi   :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getti signific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Interventi di adeguamento delle strutture : € 2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Gossolengo – asilo  : € 120.000 (es. 2007/2009 tot. 34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Travo – asilo nido  : € 100.000 (es. 2007/2009 tot. 3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une di Gossolengo – mensa scolastica   : € 15.000 (2007/2009 tot. 45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Progetti specifici  : € 15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ocesi di Piacenza – Fondo solidarietà sociale : € 5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rdine dei Cappuccini Vigevano – iniz. a favore della povertà  : €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une di Borgonovo – attività laboratori persone svantaggiate  : € 24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 comprensivo Cadeo -  nuove tecnologie per disabili 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.ne Aias  Piacenza – sostegno attività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.ne Aias Vigevano – sostegno attività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1081080" cy="93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24720" y="765000"/>
            <a:ext cx="10796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lantropia, Beneficenza,Volontariato :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getti signific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Interventi di promozione diretti al sostegno del volontariato  : € 422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Ass.ne Assofa – realizzazione nuova sede : € 100.000 (es.2009/2011 tot. 3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CRI (ass.ne Casse e Fondazioni) -  interventi  a favore delle popolazioni dell’Abruzzo : € 6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derazione Le Stelle - : € 6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ritas – persone senza fissa dimora : € 4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ndazione Pia Pozzoli – percorsi di residenzialità per soggetti disabili : € 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.ne piacentina leucemie – assistenza domiciliare : € 1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ordinamento volontariato Vigevano – iniz. varie : € 12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frica Mission – sostegno attività : € 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.ne famiglie disabili – sostegno attivita: € 8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1081080" cy="93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524720" y="765000"/>
            <a:ext cx="10317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ttori famiglia/volontariato/anziani : importi totali deliber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tale deliberato a favore degli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asili e nidi  di Piacenza e provincia es. 2007/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tot. €  1.19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</a:rPr>
              <a:t>(es. Travo/Calendasco/Pianello/Gossolengo/Lugagnano/Vigolzone,Soarza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tale deliberato a favore degli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anziani (case di riposo)  di Piacenza e provincia es. 2005/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tot. € 3.5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imes New Roman"/>
              </a:rPr>
              <a:t>(es. Unicoop, Consorzio Farini-Ferriere, Comune di Vernasca, Maruffi, Madonna Bomba, Andreoli, Albesani, Prospero Verani,Giovanni XIII, Vassalli Remondini,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rogazioni deliberate sui territori di Piacenza e Vigevano dal 1991 al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2071800"/>
            <a:ext cx="5905440" cy="3933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00720" y="2060640"/>
            <a:ext cx="23558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6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87640" y="198108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e fondazioni di origine bancaria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Bookman Old Style"/>
              </a:rPr>
              <a:t>sono  soggetti   non profit, privati e autonomi</a:t>
            </a:r>
            <a:r>
              <a:rPr b="0" lang="en-US" sz="1600" spc="-1" strike="noStrike">
                <a:solidFill>
                  <a:srgbClr val="cc0000"/>
                </a:solidFill>
                <a:latin typeface="Bookman Old Style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che  perseguono  esclusivamente  scopi  di utilità sociale e di promozione dello sviluppo economico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en-US" sz="1600" spc="-1" strike="noStrike">
                <a:solidFill>
                  <a:srgbClr val="cc0000"/>
                </a:solidFill>
                <a:latin typeface="Bookman Old Style"/>
              </a:rPr>
              <a:t>Le Fondazioni bancarie sono 88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’attività istituzionale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ndazione di Piacenza e Vigevano 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sercizio 2009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0780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okman Old Style"/>
              </a:rPr>
              <a:t>Settori d’Intervento Istituzionale</a:t>
            </a: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okman Old Style"/>
              </a:rPr>
              <a:t>    </a:t>
            </a:r>
            <a:br>
              <a:rPr sz="2400"/>
            </a:br>
            <a:r>
              <a:rPr b="0" lang="en-US" sz="1800" spc="-1" strike="noStrike">
                <a:solidFill>
                  <a:srgbClr val="cc0000"/>
                </a:solidFill>
                <a:latin typeface="Bookman Old Style"/>
              </a:rPr>
              <a:t>Le percentuali (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979640" y="1557360"/>
          <a:ext cx="566424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66424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Ripartizione delle riso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777080" cy="14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e risorse erogate nell’esercizio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1511280" cy="649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95640" y="1700280"/>
            <a:ext cx="396072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843280" y="3789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124000" y="3789360"/>
            <a:ext cx="8636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572000" y="378936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80000" y="3789360"/>
            <a:ext cx="863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435640" y="3789360"/>
            <a:ext cx="792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227640" y="3789360"/>
            <a:ext cx="865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ipartizione erogazioni effettive 2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84720" y="2478240"/>
            <a:ext cx="2232360" cy="23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87280" y="2236680"/>
            <a:ext cx="4176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Bookman Old Style"/>
              </a:rPr>
              <a:t>n. richieste esaminate dal C.d.A  </a:t>
            </a: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Bookman Old Style"/>
              </a:rPr>
              <a:t>nell’anno 2009</a:t>
            </a:r>
            <a:r>
              <a:rPr b="0" lang="it-IT" sz="1400" spc="-1" strike="noStrike">
                <a:solidFill>
                  <a:srgbClr val="cc0000"/>
                </a:solidFill>
                <a:latin typeface="Bookman Old Style"/>
              </a:rPr>
              <a:t> : </a:t>
            </a:r>
            <a:r>
              <a:rPr b="1" lang="it-IT" sz="2000" spc="-1" strike="noStrike" u="sng">
                <a:solidFill>
                  <a:srgbClr val="cc0000"/>
                </a:solidFill>
                <a:uFillTx/>
                <a:latin typeface="Bookman Old Style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791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3809880" cy="3463920"/>
        </p:xfrm>
        <a:graphic>
          <a:graphicData uri="http://schemas.openxmlformats.org/drawingml/2006/table">
            <a:tbl>
              <a:tblPr/>
              <a:tblGrid>
                <a:gridCol w="2008080"/>
                <a:gridCol w="1801800"/>
              </a:tblGrid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educ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volontari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famig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altri sett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anzi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ricer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666699"/>
                          </a:solidFill>
                          <a:latin typeface="MS Sans Serif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Totale comples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205000"/>
            <a:ext cx="42447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3:08:39Z</dcterms:created>
  <dc:creator>giorgia</dc:creator>
  <dc:description/>
  <dc:language>en-US</dc:language>
  <cp:lastModifiedBy>Fondazione Piacenza e Vigevano</cp:lastModifiedBy>
  <dcterms:modified xsi:type="dcterms:W3CDTF">2010-04-28T17:18:56Z</dcterms:modified>
  <cp:revision>254</cp:revision>
  <dc:subject/>
  <dc:title>PRESENTAZIONE</dc:title>
</cp:coreProperties>
</file>