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7E39-3746-404B-878A-0D883922F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D228-E049-49E0-B983-1F11236B7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08D6-D066-40E4-A043-FFFCC85F8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A82B-A5A2-4721-BE52-3F7EEF31F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2347-D3FE-4CE3-A3FE-658849BD2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264C-F80F-4D31-B0C1-70ACBA99F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FB75-062C-4EBA-A35B-F05A41D14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BC93-FCBA-4F61-83FE-171E4BBA7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DFF3-D592-44D2-924F-6FBF8E37D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F543-B598-477F-A8BA-D6F3ABDB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81AE-9F9F-4628-94E4-77782E82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090F-4808-42FA-A83A-610A4C8A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868C4-81B6-412C-A8D4-A26B0EC2942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afondazione.com/images/contenuti/comunicazione/logo/logo.pdf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Il bilancio d’esercizio 2009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560" y="4292640"/>
            <a:ext cx="7417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ontro con la Stam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9 aprile 2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scarica il logo .pd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000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d1cb"/>
                </a:solidFill>
                <a:latin typeface="Arial"/>
              </a:rPr>
              <a:t>Quadro Economico e Finanziario </a:t>
            </a:r>
            <a:endParaRPr b="0" lang="en-US" sz="32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3960720"/>
            <a:ext cx="4284720" cy="2924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0320" y="3284640"/>
            <a:ext cx="37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iusura di borsa del 9 marzo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211640" y="3976560"/>
            <a:ext cx="4932360" cy="2908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341600" y="3284640"/>
            <a:ext cx="415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iusura di borsa al 31 dicembre 2009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93720"/>
            <a:ext cx="871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l 2009 i mercati finanziari hanno adottato due visuali diametralmente oppost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l primo trimestre è stato caratterizzato da condizioni di elevata volatilità in un contesto di generale decrescita delle economie mondiali. Il trimestre chiudeva con il segno negativo su tutti i mercat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i trimestri successivi hanno evidenziato una crescita violenta tanto che tutti gli strumenti finanziari hanno abbondantemente recuperato le perdite dei primi mesi dell’ann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32000" y="3573360"/>
            <a:ext cx="503280" cy="251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7885080" y="3573360"/>
            <a:ext cx="43200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-100080"/>
            <a:ext cx="7993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La gestione Patrimoniale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4941720"/>
            <a:ext cx="864072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li investimenti fruttiferi, al 31.12.2009 ammontavano a circa 404 milioni di euro suddivisi fra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bligazioni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milioni di eur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ecipazioni azionari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8 milioni di eur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vate equity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15 milioni di eur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ndi e polizz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57 milioni di eu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quidità e immobili da reddito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4 milioni di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64880" y="4738680"/>
            <a:ext cx="173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ati in milioni di eur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044720" y="431640"/>
            <a:ext cx="705636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La gestione Economica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ricavi netti della gestione finanziaria sono pari a oltre 13 milioni di euro mentre i costi operativi e di gestione sono scesi sotto 1,6 milioni di eu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4581360"/>
            <a:ext cx="8785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Il rendimento lordo degli investimenti si è attestato al 3,6%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Le contribuzioni più significative al rendimento della gestione finanziaria sono rappresentate dai dividendi delle partecipazioni azionarie in ENEL e Cassa Depositi e Prestiti, dal dividendo erogato dal fondo immobiliare F.I.P., dagli interessi relativi alle obbligazioni struttur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4221000"/>
            <a:ext cx="206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alori in migliaia di eur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55640" y="2349360"/>
            <a:ext cx="7704000" cy="18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89647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1d1cb"/>
                </a:solidFill>
                <a:latin typeface="Arial"/>
              </a:rPr>
              <a:t>Avanzo di Gestione: € 10.709.841,44 + 3% su 2008</a:t>
            </a:r>
            <a:endParaRPr b="0" lang="en-US" sz="28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71640" y="1003320"/>
            <a:ext cx="7200720" cy="58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La gestione Economica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2340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Risultati sostanzial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ncremento* del   patrimonio di oltre 3 milioni di euro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Aumento* di quasi 5 milioni  delle Fon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*(al netto di eventi di natura straordinari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08320" y="5661000"/>
            <a:ext cx="22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i in milioni di eu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195640" y="954000"/>
            <a:ext cx="694836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5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Grazie per l’attenzione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16:35:36Z</dcterms:created>
  <dc:creator>massimo sbordi</dc:creator>
  <dc:description/>
  <dc:language>en-US</dc:language>
  <cp:lastModifiedBy>sbordi</cp:lastModifiedBy>
  <dcterms:modified xsi:type="dcterms:W3CDTF">2010-04-28T14:37:17Z</dcterms:modified>
  <cp:revision>67</cp:revision>
  <dc:subject/>
  <dc:title>Il bilancio d’esercizio del 2005</dc:title>
</cp:coreProperties>
</file>